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C3E5-7CE8-4120-83E0-7089E2440CA6}" type="slidenum"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ly bilingual dictionary is a static resource; WordAssoc and LF alignment are directly learned from data &gt;&gt; this method is important for our language-pair and domain scal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he observation to make here is that when we’re good, we’re very good. Babelfish, on the other hand, is consistently mediocr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Recall that a “2” is nothing to boast about: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somewhere in between “possibly comprehensible” and “acceptable”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92, or 37% of MSR-MT sentences judged better than 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33, or 13% of Babelfish sentences got this rat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Our work offers the promise of much better quality, and for a good many sentences in this dataset, we’re delivering tha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Count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Babelfis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WinM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=1.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=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7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=2.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159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1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=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217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15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=3.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239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2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nguage-pair independence is what I focus on to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lingual MT: weird word, but here it means language-pair independence, that will enable us to quickly deploy new language pai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do this by combining lang-specific and lang-independent compon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ng-specific components: pre-existing components, not specific to 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ng-independent components: alignment and transfer. Because these are lang-independent, the system can adapt to new language pairs as well as new domains pretty quick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an MT system to be scalable to language pairs (=multilingual MT), two things must be learned: lexical and structural mappings. I will show you how we learn these mappings automatically within our syst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ly bilingual dictionary is a static resource; WordAssoc and LF alignment are directly learned from data &gt;&gt; this method is important for our language-pair and domain scal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ly bilingual dictionary is a static resource; WordAssoc and LF alignment are directly learned from data &gt;&gt; this method is important for our language-pair and domain scal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LF relations in a bit 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ttern is just one of those that we ex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C946-0BA4-42EE-BF5C-D6F34C91A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9ABA-3FC9-4838-A256-E6A774E3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F833-436B-4E26-88C6-927B21B6B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3246-0078-4EDA-AD16-641967367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508C-1AA2-4A11-A648-580E6797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66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23D3-75EB-48D2-A206-2133FDFF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599D-6808-4961-B4FC-85FFBE3F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F9A7-54D8-419D-B585-36734E3D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CB71-207B-4937-BBC6-08D2B17B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66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E509-1CFC-493B-9D57-9FBFAB9E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0A22-E1B0-4EA6-83B0-B9839D09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66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923F-D0C9-48DE-A62D-4EA5B9C2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0583-9C59-4FC8-9FD0-5A67275F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29E6-0E12-419A-B415-DA5DD0DF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E207-4764-4B02-879D-ED16D069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402A-831B-474A-B142-F6DBB91BB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841A-F14F-4679-9E30-988FFBD08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EDCCF-6935-4B59-9E0E-86A01BAFA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66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C9005-DBB0-4564-B9BD-B504CF01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9C078-A4F7-47B8-BA14-6B4E4E97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239B7-6834-43BD-A19B-A43A3B8D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44C63-C14B-4754-A077-AB807AFF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F61E-0AEC-4593-8B23-6F9FD2F3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66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6247C-353D-4AB4-B7ED-3A996463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FA2FF-D184-48E0-AAA9-E96A0C56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5A1B4-DF46-47FA-B744-D849A4B2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627B8-134D-46B3-895A-23B5E2E7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9B24B-F2CC-4957-875A-7DF96F96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FD448-D47E-4801-8D58-85B574C1E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04005-7DA9-49B5-AB30-109D655FE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FCB7-6477-48B9-B296-D15BE14A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0BE5-9EB6-4ECE-98D0-5EF5EB29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66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8655-6877-4376-A450-0B8A15E8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E172-2E0D-4E9E-AB0E-03A88BD8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B3E1-C307-4AB8-92CB-2F33F2EF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8733-2734-428F-9B2E-5F151724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3526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609480"/>
            <a:ext cx="579096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52480" y="685800"/>
            <a:ext cx="5639040" cy="19051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6600"/>
                </a:solidFill>
                <a:latin typeface="Trebuchet MS"/>
              </a:rPr>
              <a:t>Click to edit the outline text format</a:t>
            </a:r>
            <a:endParaRPr b="0" i="1" lang="en-US" sz="3200" spc="-1" strike="noStrike">
              <a:solidFill>
                <a:srgbClr val="ff66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9FF3-B3DC-4CE0-A5AC-71E2FFC17C0C}" type="slidenum"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research.microsoft.com/nlp/nlppubs.aspx" TargetMode="External"/><Relationship Id="rId2" Type="http://schemas.openxmlformats.org/officeDocument/2006/relationships/hyperlink" Target="http://research.microsoft.com/nlp/nlppubs.aspx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52480" y="685800"/>
            <a:ext cx="5639040" cy="19051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SR-MT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295280" y="3429000"/>
            <a:ext cx="65534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LP Group</a:t>
            </a:r>
            <a:endParaRPr b="0" i="1" lang="en-US" sz="3600" spc="-1" strike="noStrike">
              <a:solidFill>
                <a:srgbClr val="ff66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rosoft Research</a:t>
            </a:r>
            <a:endParaRPr b="0" i="1" lang="en-US" sz="3600" spc="-1" strike="noStrike">
              <a:solidFill>
                <a:srgbClr val="ff66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66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Hisami Suzuki</a:t>
            </a:r>
            <a:endParaRPr b="0" i="1" lang="en-US" sz="2800" spc="-1" strike="noStrike">
              <a:solidFill>
                <a:srgbClr val="ff66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66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ISLE Workshop</a:t>
            </a:r>
            <a:endParaRPr b="0" i="1" lang="en-US" sz="2800" spc="-1" strike="noStrike">
              <a:solidFill>
                <a:srgbClr val="ff66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Pisa, 2 December 2002</a:t>
            </a:r>
            <a:endParaRPr b="0" i="1" lang="en-US" sz="2800" spc="-1" strike="noStrike">
              <a:solidFill>
                <a:srgbClr val="ff66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oss-linguistic variations in LF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14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F normalizes many surface variation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not an interlingua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ybrid of symbolic and statistical techniques: alignment learns the mapping of LF subgraph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572000" y="1887480"/>
            <a:ext cx="4486320" cy="4665240"/>
            <a:chOff x="4572000" y="1887480"/>
            <a:chExt cx="4486320" cy="4665240"/>
          </a:xfrm>
        </p:grpSpPr>
        <p:pic>
          <p:nvPicPr>
            <p:cNvPr id="317" name="" descr=""/>
            <p:cNvPicPr/>
            <p:nvPr/>
          </p:nvPicPr>
          <p:blipFill>
            <a:blip r:embed="rId1"/>
            <a:stretch/>
          </p:blipFill>
          <p:spPr>
            <a:xfrm>
              <a:off x="4851360" y="4493520"/>
              <a:ext cx="3733920" cy="192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" descr=""/>
            <p:cNvPicPr/>
            <p:nvPr/>
          </p:nvPicPr>
          <p:blipFill>
            <a:blip r:embed="rId2"/>
            <a:stretch/>
          </p:blipFill>
          <p:spPr>
            <a:xfrm>
              <a:off x="4694040" y="2007720"/>
              <a:ext cx="4364280" cy="204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4694040" y="3098160"/>
              <a:ext cx="3348000" cy="10328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694040" y="5438880"/>
              <a:ext cx="3348000" cy="10328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572000" y="1887480"/>
              <a:ext cx="4456080" cy="466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F mappings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pture systematic correspondence between LF sub-graph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ored in MindNe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vers for both lexical and structural mapping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hand-coded transfer rul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ucial for language-pair independenc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s dependency on hand-coded bilingual dictionary (fallback only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valuation methodology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2017440"/>
            <a:ext cx="865008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th automated and human evaluat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o kinds of human evaluat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tive evaluation: compares output of two system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solute evaluation: evaluates the quality of system output along absolute standar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lative evaluation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865160"/>
            <a:ext cx="865008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-7 independent raters are presented with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human reference transl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pair of machine translations (in random order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ters are not shown the source language sentenc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ters don’t know which machine translation is from which system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ters indicate a relative preference for system A or B or neither, which corresponds to scores of 1, −1 or 0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ch sentence is evaluated by all raters, and scores are average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6360" y="76320"/>
            <a:ext cx="79581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Relative evaluatio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Spanis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↔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English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"/>
          <p:cNvSpPr/>
          <p:nvPr/>
        </p:nvSpPr>
        <p:spPr>
          <a:xfrm>
            <a:off x="5191920" y="2590920"/>
            <a:ext cx="30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English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Spa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98680" y="2592360"/>
            <a:ext cx="31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Spanish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Engli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4495680" y="3463920"/>
          <a:ext cx="4648320" cy="270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463920"/>
                    <a:ext cx="4648320" cy="27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6837480" y="3427560"/>
            <a:ext cx="23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L&amp;H (uncustomiz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2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818120" y="4540320"/>
            <a:ext cx="99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No pr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-152280" y="3429000"/>
          <a:ext cx="4724280" cy="2751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52280" y="3429000"/>
                    <a:ext cx="4724280" cy="27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503640" y="5759280"/>
            <a:ext cx="106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MSR-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7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354400" y="3429000"/>
            <a:ext cx="28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Babelfish (uncustomiz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25600" y="4311720"/>
            <a:ext cx="99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No pr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859640" y="5715000"/>
            <a:ext cx="106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MSR-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7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917000" y="1905120"/>
            <a:ext cx="54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Sentence preference by mean sco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366480"/>
            <a:ext cx="7793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Evaluating absolute quality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040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uman evaluators are asked to rank translation quality on a scale of 1-4, comparing to gold-standard human transla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140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4= </a:t>
            </a:r>
            <a:r>
              <a:rPr b="0" i="1" lang="en-US" sz="2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Ideal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宋体"/>
              </a:rPr>
              <a:t>: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grammatically correct, all information included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3= </a:t>
            </a:r>
            <a:r>
              <a:rPr b="0" i="1" lang="en-US" sz="2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Acceptable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宋体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 Not perfect, but definitely comprehensible, AND with accurate transfer of all important information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2= </a:t>
            </a:r>
            <a:r>
              <a:rPr b="0" i="1" lang="en-US" sz="2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Possibly acceptable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宋体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 may be interpretable given context/time, some information transferred accuratel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1= </a:t>
            </a:r>
            <a:r>
              <a:rPr b="0" i="1" lang="en-US" sz="2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Unacceptable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宋体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Absolutely not comprehensible and/or little or no information transferred accurately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ood inter-rater agreement on this tas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7872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Absolute quality evaluatio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Spanish</a:t>
            </a:r>
            <a:r>
              <a:rPr b="0" lang="en-US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English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165320" y="2286000"/>
          <a:ext cx="627840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286000"/>
                    <a:ext cx="62784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914400" y="18288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verage quality scores:    Babelfish=2.344    MSR-MT=2.7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ench</a:t>
            </a:r>
            <a:r>
              <a:rPr b="0" lang="en-US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panish in a day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9780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al: testing language-pair independenc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linguistic tunin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nimal hand-built bilingual dictionar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ction words only, 7 person-hours of assembl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wise used automatically learned dictionar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arison to SailLabs’ F-S syste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pected commercial hand-coded transfer system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523440"/>
            <a:ext cx="795816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ebuchet MS"/>
                <a:ea typeface="宋体"/>
              </a:rPr>
              <a:t>French</a:t>
            </a:r>
            <a:r>
              <a:rPr b="0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800" spc="-1" strike="noStrike">
                <a:solidFill>
                  <a:srgbClr val="ffffff"/>
                </a:solidFill>
                <a:latin typeface="Trebuchet MS"/>
                <a:ea typeface="宋体"/>
              </a:rPr>
              <a:t>Spanish evaluation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"/>
          <p:cNvSpPr/>
          <p:nvPr/>
        </p:nvSpPr>
        <p:spPr>
          <a:xfrm>
            <a:off x="1371600" y="2362320"/>
            <a:ext cx="554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892160" y="243360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987640" y="2489040"/>
            <a:ext cx="149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2206800" y="3657600"/>
          <a:ext cx="4673520" cy="311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6800" y="3657600"/>
                    <a:ext cx="4673520" cy="31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1976400" y="5867280"/>
            <a:ext cx="10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SR 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5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38720" y="4343400"/>
            <a:ext cx="11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ail L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054400" y="6095880"/>
            <a:ext cx="99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No pr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7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335680" y="2057400"/>
            <a:ext cx="43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Average mean score for all sentenc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330640" y="3733920"/>
            <a:ext cx="40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Sentence preference by mean sco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097000" y="2637000"/>
            <a:ext cx="4496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459320" y="2560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097000" y="2560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593040" y="2560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932480" y="304956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305960" y="2994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439320" y="3017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14080" y="2666880"/>
            <a:ext cx="11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ail L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837480" y="2590920"/>
            <a:ext cx="106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SR-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957200" y="312408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0.22 ± 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76920" y="2514600"/>
            <a:ext cx="0" cy="60948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nguage-pair independence achieved by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-driven method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d association (statistically learned dictionary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ndNet (LF alignment)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of pre-existing linguistic component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late Microsoft’s product support websit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ghly successful pilot for English-Spanis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language pairs with less closely related languag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16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SR-M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ybrid of symbolic and statistical techniques with example-based transfe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rns transfer mappings automatically from 100K’s of aligned bilingual sentence pair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fer mapping based on Logical For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als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gh quality translation automatically tuned to a specific domain (no hand-coding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nguage-pair independe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ublications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cations available at: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1"/>
              </a:rPr>
              <a:t>http://</a:t>
            </a:r>
            <a:r>
              <a:rPr b="0" lang="en-GB" sz="30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2"/>
              </a:rPr>
              <a:t>research.microsoft.com/nlp/nlppubs.aspx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ining data / Language pairs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ined on Microsoft technical documentat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glish/Spanish: 360K aligned sentence pai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anis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glish has been development and evaluation focus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 language pairs under development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085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French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↔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English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German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↔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English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085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Japanese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↔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English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French→Spanish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085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Chinese→English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text vocabulary size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MS technical text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glis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1,83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unique tokens (2,936,884 total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anis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8,88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unique tokens (3,441,891 total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are to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Verbmobil text (Vogel et al, 2000)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glis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,67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unique tokens (549,921 total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rman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,94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unique tokens (519,523 total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EU text from ELRA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glis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5,5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unique tokens (2,510,983 total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anis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7,88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unique tokens (2,627,694 total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ultilingual M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lingual MT: achieving language-pair independenc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nguage-specific component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ser, MindNet, Generation, Lexicon (monolingual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-existing components not specific to M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rrently in 7 languag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nguage-independent method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ignment and transfe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utomatic methods (1)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d associat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ypothesize word and phrase translations based on co-occurrence in bitext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tab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–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fich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s log-likelihood-ratio statistic that performs well with low frequency item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iminates need for hand-coded bilingual dictionari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gnificantly improves overall translation qualit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utomatic methods (2)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gical Form (LF) Alignment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ntral to automatic customization and language-pair independenc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rns LF transfer patterns entirely from bitext (both lexical and structural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d association creates tentative lexical mapping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ignment rules extract transfer patterns/contex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tterns are filtered and ranked using frequency statistic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chine learning techniques identify optimal contex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413480" y="4038480"/>
            <a:ext cx="1349640" cy="609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91520" y="396252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l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81680" y="304920"/>
            <a:ext cx="2057400" cy="76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81680" y="289080"/>
            <a:ext cx="2076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atistical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sociation lear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28600"/>
            <a:ext cx="1447920" cy="7621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0560" y="228600"/>
            <a:ext cx="115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nt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14600" y="380880"/>
            <a:ext cx="1082520" cy="42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30440" y="36504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ar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962520" y="1359000"/>
            <a:ext cx="7617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97776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ha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135900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59040" y="16606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c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201640" y="16606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fi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90760" y="13701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23640" y="1359000"/>
            <a:ext cx="41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-1080" y="1179360"/>
            <a:ext cx="25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Haga clic en la fich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91120" y="228600"/>
            <a:ext cx="1447560" cy="7621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64000" y="228600"/>
            <a:ext cx="88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2057400"/>
            <a:ext cx="1447920" cy="7621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0560" y="2057400"/>
            <a:ext cx="115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nt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14600" y="2209680"/>
            <a:ext cx="1082520" cy="42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30440" y="219384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ar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3008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cc99"/>
                </a:solidFill>
                <a:latin typeface="Arial"/>
              </a:rPr>
              <a:t>Click the ta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91120" y="2057400"/>
            <a:ext cx="1447560" cy="7621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86680" y="2057400"/>
            <a:ext cx="84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39560" y="281952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c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13240" y="320040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53960" y="348948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79280" y="3124080"/>
            <a:ext cx="41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086600" y="1905120"/>
            <a:ext cx="1752480" cy="76176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266600" y="1965240"/>
            <a:ext cx="149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ord/phr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020720" y="265104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fich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08720" y="3962520"/>
            <a:ext cx="1447560" cy="76176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57840" y="396252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l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5409720" y="509256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34080" y="47116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ha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72200" y="509256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06960" y="53942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c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49560" y="539424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fi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38320" y="51037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71560" y="5092560"/>
            <a:ext cx="41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5120" y="579132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c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38800" y="617220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779880" y="646128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05200" y="6095880"/>
            <a:ext cx="41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34120" y="5715000"/>
            <a:ext cx="533160" cy="2286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50292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10280" y="571500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609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81280" y="609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2438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81280" y="2438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86400" y="533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562720" y="914400"/>
            <a:ext cx="121896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86400" y="685800"/>
            <a:ext cx="2057400" cy="335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86400" y="2514600"/>
            <a:ext cx="19051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685800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4038480"/>
            <a:ext cx="1600200" cy="609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334120" y="4267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05120" y="3962520"/>
            <a:ext cx="1600200" cy="76176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09960" y="3962520"/>
            <a:ext cx="132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F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pp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35232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905120" y="5105520"/>
            <a:ext cx="7617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28760" y="47242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ha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66880" y="51055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01640" y="54072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c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54120" y="540720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33360" y="51166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66240" y="5105520"/>
            <a:ext cx="41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359800" y="586728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c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33840" y="6248520"/>
            <a:ext cx="7617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75000" y="6537240"/>
            <a:ext cx="2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99880" y="6172200"/>
            <a:ext cx="41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6320" y="3962520"/>
            <a:ext cx="1676160" cy="761760"/>
          </a:xfrm>
          <a:prstGeom prst="flowChartMagneticDrum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960" y="41148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nd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175212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077320" y="1066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381880" y="26668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66880" y="5181480"/>
            <a:ext cx="0" cy="7621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6320" y="6148440"/>
            <a:ext cx="21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54720" y="3976560"/>
            <a:ext cx="175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tract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pp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7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6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898880" y="3733920"/>
            <a:ext cx="1349640" cy="457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876920" y="37339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81560" y="5029200"/>
            <a:ext cx="1676520" cy="762120"/>
          </a:xfrm>
          <a:prstGeom prst="flowChartMagneticDrum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88400" y="5029200"/>
            <a:ext cx="121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iling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ctio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28600"/>
            <a:ext cx="1447920" cy="7621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7600" y="22860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n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65240" y="380880"/>
            <a:ext cx="930240" cy="381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905120" y="3808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ar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063600" y="1327320"/>
            <a:ext cx="533160" cy="24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18040" y="99540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hac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97120" y="1327320"/>
            <a:ext cx="533520" cy="24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761200" y="14922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c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44800" y="149220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tex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26800" y="12193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12400" y="1219320"/>
            <a:ext cx="41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-1080" y="990720"/>
            <a:ext cx="2289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Haga clic 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el text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muestra resal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228600"/>
            <a:ext cx="1447920" cy="7621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73280" y="228600"/>
            <a:ext cx="88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4920" y="5181480"/>
            <a:ext cx="155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cc99"/>
                </a:solidFill>
                <a:latin typeface="Arial"/>
              </a:rPr>
              <a:t>Click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cc99"/>
                </a:solidFill>
                <a:latin typeface="Arial"/>
              </a:rPr>
              <a:t>highligh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cc99"/>
                </a:solidFill>
                <a:latin typeface="Arial"/>
              </a:rPr>
              <a:t>sample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724280" y="2438280"/>
            <a:ext cx="1447920" cy="7621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024520" y="2438280"/>
            <a:ext cx="90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n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796720" y="5840280"/>
            <a:ext cx="230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anaranjad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orang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23880" y="609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95480" y="609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00600" y="1235160"/>
            <a:ext cx="1600200" cy="457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648320" y="121932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ndM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228600"/>
            <a:ext cx="1676520" cy="762120"/>
          </a:xfrm>
          <a:prstGeom prst="flowChartMagneticDrum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553080" y="3808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nd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673440" y="1784520"/>
            <a:ext cx="533520" cy="24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06960" y="1784520"/>
            <a:ext cx="533160" cy="24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12600" y="17208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68520" y="172080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tr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66840" y="194940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resal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85800" y="194940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muest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4495680"/>
            <a:ext cx="1447920" cy="7621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17600" y="44956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n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828800" y="4648320"/>
            <a:ext cx="1295280" cy="38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76520" y="46324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00400" y="4495680"/>
            <a:ext cx="1447920" cy="7621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5960" y="4495680"/>
            <a:ext cx="84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523880" y="4876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124080" y="4876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020040" y="52624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398760" y="5594400"/>
            <a:ext cx="533520" cy="24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690720" y="575928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612600" y="5454720"/>
            <a:ext cx="41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475080" y="6051600"/>
            <a:ext cx="533520" cy="24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08600" y="6051600"/>
            <a:ext cx="533160" cy="24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98400" y="59436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169800" y="594360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tr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747520" y="6216480"/>
            <a:ext cx="12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highligh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147560" y="621648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6324480" y="1936800"/>
            <a:ext cx="533520" cy="24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478920" y="160488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hac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0" y="1936800"/>
            <a:ext cx="533520" cy="24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022080" y="21016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c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090560" y="225432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(tex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087680" y="18288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73280" y="1828800"/>
            <a:ext cx="41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964200" y="3003480"/>
            <a:ext cx="533520" cy="24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70200" y="29401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043400" y="316872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muest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609680" y="16002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988400" y="1932120"/>
            <a:ext cx="533160" cy="24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408880" y="211788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02240" y="1792440"/>
            <a:ext cx="41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729200" y="271152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047080" y="3003480"/>
            <a:ext cx="533520" cy="24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336880" y="289548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86040" y="316872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223040" y="1752480"/>
            <a:ext cx="39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495680" y="6094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562720" y="1676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3200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495680" y="4191120"/>
            <a:ext cx="10670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6095880" y="762120"/>
            <a:ext cx="45720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095880" y="4191120"/>
            <a:ext cx="838440" cy="8380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680" y="620244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UN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316640" y="211788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5050"/>
                </a:solidFill>
                <a:latin typeface="Arial"/>
                <a:ea typeface="ＭＳ Ｐゴシック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236800" y="2254320"/>
            <a:ext cx="67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(tex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586200" y="271152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tex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269120" y="2895480"/>
            <a:ext cx="39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606720" y="43750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700760" y="3549600"/>
            <a:ext cx="12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highligh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251400" y="354960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resal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315200" y="3733920"/>
            <a:ext cx="3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8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22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23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35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35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36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8T19:32:21Z</dcterms:created>
  <dc:creator>William Dolan</dc:creator>
  <dc:description/>
  <dc:language>en-US</dc:language>
  <cp:lastModifiedBy>Hisami Suzuki</cp:lastModifiedBy>
  <dcterms:modified xsi:type="dcterms:W3CDTF">2002-12-10T21:52:39Z</dcterms:modified>
  <cp:revision>29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28817209</vt:r8>
  </property>
  <property fmtid="{D5CDD505-2E9C-101B-9397-08002B2CF9AE}" pid="3" name="_AuthorEmail">
    <vt:lpwstr>hisamis@microsoft.com</vt:lpwstr>
  </property>
  <property fmtid="{D5CDD505-2E9C-101B-9397-08002B2CF9AE}" pid="4" name="_AuthorEmailDisplayName">
    <vt:lpwstr>Hisami Suzuki</vt:lpwstr>
  </property>
  <property fmtid="{D5CDD505-2E9C-101B-9397-08002B2CF9AE}" pid="5" name="_EmailSubject">
    <vt:lpwstr>ISLE Workshop - Pisa - 02-03/12/2002 - Your Slides</vt:lpwstr>
  </property>
</Properties>
</file>